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7CD-3749-427F-9F76-06F01BCF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E16-AB3E-4E60-8B34-440E46D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E47-3FDB-46A1-B5D5-D094CEFE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F22-018E-40D8-97C4-2C702EDB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5A6-D309-4936-8FF1-8930DEF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89B-C82D-4C05-9F64-15F797F1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0A2-84D5-4049-A96F-EF919CC8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FAD-442C-4674-A46F-94331DF4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86F-9F6A-4E51-B49F-C3BD19E9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993-EBA3-4F41-9E65-50255EC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3A0-5642-497E-94FC-027369A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EDF-A8DF-4105-B924-C741D487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4F9D-9CEF-47D3-8D75-6468B40FE6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7704000" cy="424836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зработки «Декларации пожарной безопасно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1600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6 марта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1592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оценки пожарного риска использу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основания обеспечения на производственном объекте допустимых значений пожарного риска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нятия решений по разработке дополнительных мер по снижению пожарной опасности производственного объекта в случае превышения одними или несколькими расчетными значениями пожарных рисков допустимых величин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работке проектной документации и проведении государственной экспертизы по пожарной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1341360"/>
            <a:ext cx="87138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БЩИЕ ПОЛО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ью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ценки пожарного риска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ределение уровня пожарной опасности производственн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личественной мер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пожарной опасности производственных объектов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 при пожар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персонал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изводственного объект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ходящихся в селитебной зоне вблизи производственного объекта (населения, проживающего на прилегающей к производственному объекту территори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авариях с пожарами на производственных объектах характеризу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выми значени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дивидуального и социального пожарных рис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4" descr="рБЖД5ок08сварка2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38224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8" name="AutoShape 29"/>
          <p:cNvSpPr/>
          <p:nvPr/>
        </p:nvSpPr>
        <p:spPr>
          <a:xfrm>
            <a:off x="539640" y="5734080"/>
            <a:ext cx="1800360" cy="430200"/>
          </a:xfrm>
          <a:prstGeom prst="downArrow">
            <a:avLst>
              <a:gd name="adj1" fmla="val 51324"/>
              <a:gd name="adj2" fmla="val 5796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2700360" y="3645000"/>
            <a:ext cx="180036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250920" y="3645000"/>
            <a:ext cx="180000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6227640" y="2565360"/>
            <a:ext cx="2305080" cy="57636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989000"/>
            <a:ext cx="8569080" cy="520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кт в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ном объем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вечает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ребования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едеральных законов о технических регламентах и нормативных документов по пожарн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141720"/>
            <a:ext cx="4105080" cy="48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пожароопасных веществ на объекте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порогового знач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88000" y="3141720"/>
            <a:ext cx="4105080" cy="85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атывается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которой указывается только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еречень требований пожарной безопасности для конкретного производственного о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79280" y="4221000"/>
            <a:ext cx="2592360" cy="152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атываются и согласовываются в установленном порядке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 по пожарной безопасност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При выполнении требований специальных технических условий объект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отвечает нормативным значениям пожарного рис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Расчет риска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не производитс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116000" y="2565360"/>
            <a:ext cx="2305080" cy="576360"/>
          </a:xfrm>
          <a:prstGeom prst="downArrow">
            <a:avLst>
              <a:gd name="adj1" fmla="val 51380"/>
              <a:gd name="adj2" fmla="val 47681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12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20364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987640" y="4221000"/>
            <a:ext cx="1368360" cy="121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одя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счеты пожарного риска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включаются в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2771640" y="5661000"/>
            <a:ext cx="1800360" cy="503280"/>
          </a:xfrm>
          <a:prstGeom prst="downArrow">
            <a:avLst>
              <a:gd name="adj1" fmla="val 51324"/>
              <a:gd name="adj2" fmla="val 4921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300720" y="4076640"/>
            <a:ext cx="1800360" cy="2089080"/>
          </a:xfrm>
          <a:prstGeom prst="downArrow">
            <a:avLst>
              <a:gd name="adj1" fmla="val 58028"/>
              <a:gd name="adj2" fmla="val 16412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22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50920" y="6165720"/>
            <a:ext cx="86421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ТВЕЧ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ОРМАТИВНЫМ ЗНАЧЕНИЯМ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4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8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4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8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8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0"/>
          <p:cNvSpPr/>
          <p:nvPr/>
        </p:nvSpPr>
        <p:spPr>
          <a:xfrm>
            <a:off x="395280" y="83664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496000" cy="5290920"/>
        </p:xfrm>
        <a:graphic>
          <a:graphicData uri="http://schemas.openxmlformats.org/drawingml/2006/table">
            <a:tbl>
              <a:tblPr/>
              <a:tblGrid>
                <a:gridCol w="5400360"/>
                <a:gridCol w="30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овое значение,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г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воспламеняющиеся и горючие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пыли и волок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вердые горюч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жидкости, находящиеся на товарно-сырьевых складах и баз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                                              2000                                             3000                                          5000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мощность установ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неф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г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лн. тонн в год и более    3 млрд.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д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расстояние между объектами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енее 500 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ываю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арные количества веществ (материалов), находящихся на ни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имеется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сколько видов горючих веществ (материал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то превышение порогового значения определяе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ловие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&gt;1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а горючих газов, легковоспламеняющихся и горючих жидкостей, горючих пылей, волокон и твёрдых горючих материалов, соответствен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ответствующие пороговые значения количеств указанных веществ (материал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2050920" y="5229360"/>
                <a:ext cx="302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г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ж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38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 Курс «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13000"/>
            <a:ext cx="88200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4. Требования к декларации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Декларация   пожарной   безопасности   составляется   в   отношении объектов защиты, для которых законодательством Российской Федерации о градостроительной деятельности предусмотрено проведение государственной экспертизы    проектной    документации,    а   также    для    зданий   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й пожарной опасности Ф1.1 и предусматрив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пожарного риска (если проводится расчет риска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возможного ущерба имуществу третьих лиц от пожара (может быть проведена в рамках добровольного страхования ответственности за ущерб третьим лицам от воздействия пожар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461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декларации пожарной безопасности производственных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тивное обеспечение реализации положен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Федерального закона от 22 июля 2008 г. №123-ФЗ «Технический регламент о требованиях пожарной безопасност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ап 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«Разработка нормативного документа, устанавливающе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 к оформлению декларации пожарной безопасност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461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К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___                               Москва                                         №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Формы и Порядка регистрации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64 Федерального закона от 22 июля 2008 г. № 123-ФЗ "Технический регламент о требованиях пожарной безопасности"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 целях повышения уровня пожарной безопасности объектов защит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р и к а з ы в а 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твердить Форму декларации пожарной безопасности согласно приложению №1 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Утвердить Порядок регистрации декларации пожарной безопасности  согласно приложению №2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р                                           С.К. Шойг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19640" y="1413000"/>
            <a:ext cx="540036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требования к декларации пожарной безопасности приведены в статье 64 Федерального закона № 123-ФЗ «Технический регламент о требованиях пожарной безопасности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а                                                             декларации пожарной безопа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изводственных объекто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иту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е об организ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разработчике деклар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л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щие сведения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Результаты анализа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еспечение требований пожарной 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ценка пожарного риска» (включается в декларацию при проведении оценки пожарного рис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2376360" cy="31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я пожарной безопасности производственного объ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итульный лис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1484280"/>
            <a:ext cx="2376360" cy="327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 об организации – разработчике декла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155736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62864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1700280"/>
            <a:ext cx="2376720" cy="3232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11280" y="1773360"/>
            <a:ext cx="2376360" cy="327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4360" y="1844640"/>
            <a:ext cx="2376360" cy="3331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ка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13372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2205000"/>
            <a:ext cx="2376360" cy="2925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л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кращенное наименование эксплуатирующе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или заказчика проекта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роектно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для проектируемых производственных объектов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бственни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владеющего производственным объект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48000" y="1916280"/>
            <a:ext cx="5545080" cy="47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 1 «Общие сведе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л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кращенное наименование эксплуатирую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или заказчика проекта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ект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ля проектируемых производственных объектов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бствен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ладеющего производственным объек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мил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ициа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лжности руко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, полны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тов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дре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леф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атки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сновных направлений деятельности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вязанных с эксплуатацией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2276640"/>
            <a:ext cx="2376360" cy="3163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2349360"/>
            <a:ext cx="2376720" cy="2827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мил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нициал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олжности руководител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, полны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чтов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электронн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адре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телефо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к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1280" y="2421000"/>
            <a:ext cx="2376360" cy="3070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ратки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еречень основных направлений деятельности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вязанных с эксплуатацией декларируемого производственного объек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1125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чень сведений, включаемых в декларацию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492280"/>
            <a:ext cx="2376360" cy="304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екларируемого производственного объ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27280" y="2349360"/>
            <a:ext cx="626580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кларации при выполнении в полном объеме установленных требований пожарной безопасност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нстатируется факт вы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казанных требований. В этом случае какая-либо другая информация в разделе 2 не приводи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одится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олько перечень нормативных документов, регламентирующих выполненные 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жарной безопасности для конкретного  объекта (при необходимости с указанием пунктов документо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26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- 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ыполнении в полном объем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ленных требований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49228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63700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1341360"/>
            <a:ext cx="8785440" cy="46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е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нятия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опустимого 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дивидуаль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циального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ях 7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ормативные значения пожарного рис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оссийской Федерации  от 16 февраля 2008 г. № 87 «О составе разделов проектной документации и требованиях к их содержанию» (п.п. м) п. 26 и 41)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четы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гламентированы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ачестве обязательной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ной документации на объекты капитального строительст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невыполн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обровольном порядке требований нормативных документов по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0920" y="2549520"/>
            <a:ext cx="864216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ации указываютс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тступ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требований пожарной безопасности, установленных нормативными документами, и/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статируется отсутств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олнота требова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й безопас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 производственному объекту или его составляющ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щие 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проводимых на декларируемом объект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хнологических процесс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указанием распределения и максимального количества пожароопасных веществ по декларируемому объекту. Данные должны приводить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всех составля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максимальным регламентным (проектным) значениям количества опасного вещ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разработанных и согласованных в установленном порядке для объект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пожарной безопас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зультаты оценки пожарного рис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у пожарного риска допуска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 прово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количестве обращающихся на объекте горючих веществ (материалов)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ньшем пороговых зна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268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выполнении в полном объем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сутств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59280" y="3213000"/>
            <a:ext cx="5905440" cy="35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дтверждением выпол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уемых значений пожарного риска в этом случае явля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й пожарной безопас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работанных для эт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ова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становленном порядк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ны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лжн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ражать специфи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еспечения пожарной безопасности конкретного производственного объекта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ержать компле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обходимых инженерно-технических и организационных мероприятий по обеспечению пожарной безопас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огласов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пециальных технических условий определяется нормативными правовыми актами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3357720"/>
            <a:ext cx="237636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дтверждение выпол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ребуемых   значений 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1197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тверждение соответствия производственного объек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мативным значениям риска, в случа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количество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щающихся пожароопасных веществ (материалов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е пороговог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и невыполнении в полном объеме или отсутствии требований пожарной безопасности, установленных нормативными документ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альные технические усло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268360" y="1628640"/>
            <a:ext cx="17272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08000" y="4076640"/>
            <a:ext cx="47530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132000" y="234936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564000" y="170028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195640" y="198900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340000" y="3068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3419640" y="335772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643280" y="494172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661080" y="40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6734160" y="58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211640" y="3716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73800" y="4724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211640" y="5734080"/>
            <a:ext cx="504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29272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1636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219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69bbc1"/>
              </a:gs>
              <a:gs pos="100000">
                <a:srgbClr val="c7873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987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1620720" y="472428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da330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619280" y="2276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22"/>
          <p:cNvCxnSpPr>
            <a:stCxn id="137" idx="7"/>
            <a:endCxn id="123" idx="2"/>
          </p:cNvCxnSpPr>
          <p:nvPr/>
        </p:nvCxnSpPr>
        <p:spPr>
          <a:xfrm flipH="1" flipV="1" rot="5400000">
            <a:off x="1945080" y="2087640"/>
            <a:ext cx="150120" cy="313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39" name="AutoShape 23"/>
          <p:cNvCxnSpPr/>
          <p:nvPr/>
        </p:nvCxnSpPr>
        <p:spPr>
          <a:xfrm>
            <a:off x="2484000" y="2205000"/>
            <a:ext cx="693000" cy="232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0" name="AutoShape 24"/>
          <p:cNvCxnSpPr/>
          <p:nvPr/>
        </p:nvCxnSpPr>
        <p:spPr>
          <a:xfrm>
            <a:off x="3492000" y="3715920"/>
            <a:ext cx="1080" cy="258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1" name="AutoShape 25"/>
          <p:cNvCxnSpPr/>
          <p:nvPr/>
        </p:nvCxnSpPr>
        <p:spPr>
          <a:xfrm>
            <a:off x="3419640" y="2637000"/>
            <a:ext cx="86400" cy="753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sp>
        <p:nvSpPr>
          <p:cNvPr id="142" name="Line 26"/>
          <p:cNvSpPr/>
          <p:nvPr/>
        </p:nvSpPr>
        <p:spPr>
          <a:xfrm>
            <a:off x="4932360" y="5084640"/>
            <a:ext cx="1440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5866920" y="4076280"/>
            <a:ext cx="863640" cy="7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5796000" y="5950080"/>
            <a:ext cx="936720" cy="712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 flipV="1">
            <a:off x="2340000" y="5660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2268360" y="4436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3924360" y="6093000"/>
            <a:ext cx="216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5076360" y="6021360"/>
            <a:ext cx="14292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H="1">
            <a:off x="6156000" y="5589720"/>
            <a:ext cx="14436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4859280" y="4508640"/>
            <a:ext cx="433440" cy="43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4932360" y="5229360"/>
            <a:ext cx="503280" cy="50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2637000"/>
            <a:ext cx="142920" cy="20872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755640" y="2276640"/>
            <a:ext cx="792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059280" y="1628640"/>
            <a:ext cx="14436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95640" y="2492280"/>
            <a:ext cx="0" cy="21600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0"/>
          <p:cNvSpPr/>
          <p:nvPr/>
        </p:nvSpPr>
        <p:spPr>
          <a:xfrm flipH="1" flipV="1">
            <a:off x="2700360" y="3499920"/>
            <a:ext cx="71280" cy="730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2843280" y="1628640"/>
            <a:ext cx="144360" cy="14472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2195640" y="2708280"/>
            <a:ext cx="1429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1835280" y="1700280"/>
            <a:ext cx="64908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азч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2916360" y="1844640"/>
            <a:ext cx="576000" cy="576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3851280" y="1700280"/>
            <a:ext cx="57636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НИИП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851280" y="3429000"/>
            <a:ext cx="1944720" cy="71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ование УГПН МЧС Р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292720" y="3716280"/>
            <a:ext cx="574560" cy="71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56000" y="3068640"/>
            <a:ext cx="863640" cy="2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УЗ ГП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2268360" y="3933720"/>
            <a:ext cx="7210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ект ПП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55640" y="4941720"/>
            <a:ext cx="792000" cy="358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проек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3 на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3995640" y="4365720"/>
            <a:ext cx="10810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лавгос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ГГЭ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5292720" y="4653000"/>
            <a:ext cx="57456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та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7020000" y="4076640"/>
            <a:ext cx="1008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стройнадзор (ГСН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6948360" y="4941720"/>
            <a:ext cx="107964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вод в эксплуат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7093080" y="5877000"/>
            <a:ext cx="792000" cy="142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дзор 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3419640" y="5084640"/>
            <a:ext cx="115092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-тех.мероприя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2627280" y="6308640"/>
            <a:ext cx="1008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0"/>
          <p:cNvSpPr/>
          <p:nvPr/>
        </p:nvSpPr>
        <p:spPr>
          <a:xfrm>
            <a:off x="4140360" y="6381720"/>
            <a:ext cx="792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.перевоор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1"/>
          <p:cNvSpPr/>
          <p:nvPr/>
        </p:nvSpPr>
        <p:spPr>
          <a:xfrm>
            <a:off x="5292720" y="6308640"/>
            <a:ext cx="7192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луатаци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я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2"/>
          <p:cNvSpPr/>
          <p:nvPr/>
        </p:nvSpPr>
        <p:spPr>
          <a:xfrm>
            <a:off x="6732720" y="1916280"/>
            <a:ext cx="1800000" cy="2174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астие НТ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3"/>
          <p:cNvSpPr/>
          <p:nvPr/>
        </p:nvSpPr>
        <p:spPr>
          <a:xfrm>
            <a:off x="6877080" y="19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6659640" y="2276640"/>
            <a:ext cx="1871640" cy="215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рианты решения зада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65"/>
          <p:cNvSpPr/>
          <p:nvPr/>
        </p:nvSpPr>
        <p:spPr>
          <a:xfrm>
            <a:off x="6659640" y="2349360"/>
            <a:ext cx="142920" cy="142920"/>
          </a:xfrm>
          <a:prstGeom prst="ellipse">
            <a:avLst/>
          </a:prstGeom>
          <a:solidFill>
            <a:srgbClr val="69bbc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2421000"/>
            <a:ext cx="59036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кларации  указывают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дения о принятых мероприят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беспечению пожарной безопасности в объеме, установленном нормативными правовыми актами Российской Федерации для соста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а проектной документации «Мероприятия по обеспечению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стоящее врем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став раздела проектной документации «Мероприятия по обеспечению пожарной безопасности» регламентирован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ановлением  Правительства Российской Федерации от 16 февраля 2008 г. № 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2349360"/>
            <a:ext cx="2376360" cy="327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еспечение требований пожарной безопас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197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включаемых в декларацию пожарной безопасности -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ыполнении в полном объем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989000"/>
            <a:ext cx="8569080" cy="48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кты капитального строительства производствен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епроизводственного назна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. Раздел 9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обоснование противопожарных расстояний между зданиями, сооружениями и наружными установками, обеспечивающих пожарную безопасность объектов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 по наружному противопожарному водоснабжению, по определению проездов и подъездов для пожарной техник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и обоснование принятых конструктивных и объемно-планировочных решений, степени огнестойкости и класса конструктивной пожарной опасности строительных конструк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проектных решений по обеспечению безопасности людей при возникновен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 по обеспечению безопасности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зданий, сооружений, помещений, оборудования и наружных установок по признаку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зданий, сооружений, помещений и оборудования, подлежащих защите автоматическими установками пожаротушения и оборудованию автоматической пожарной сигнализаци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противопожарной защиты (автоматических установок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989000"/>
            <a:ext cx="9144000" cy="46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и обоснование необходимости размещения оборудования противопожарной защиты, управления таким оборудованием, взаимодействия такого оборудован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алгоритма работы технических систем (средств) противопожарной защиты (при наличи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 расчет пожарных рисков угрозы жизни и здоровью людей и уничтожения имущества (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 расчет пожарных рисков не требуется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итуационный план организации земельного участка, предоставленного для размещения объекта капитального строительства, с указанием въезда (выезда) на территорию и путей подъезда к объектам пожарной техники, мест размещения и емкости пожарных резервуаров (при их наличии), схем прокладки наружного противопожарного водопровода, мест размещения пожарных гидрантов и мест размещения насосных стан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) схемы эвакуации людей и материальных средств из зданий (сооружений) и с прилегающей к зданиям (сооружениям) территории в случае возникновения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) структурные схемы технических систем (средств) противопожарной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щиты (автоматических установок пожаротушения, автоматической пожарной сигнализации, внутреннего противопожарного водопровод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1989000"/>
            <a:ext cx="9144000" cy="49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нейные объекты капитального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линейного объекта и обеспечивающих его функционирование зданий, строений и сооружений, проектируемых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характеристику пожарной опасности технологических процессов, используемых на линейном объект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, обеспечивающих пожарную безопасность линейного объекта (противопожарное расстояние от оси трассы до населенных пунктов, промышленных и сельскохозяйственных объектов, лесных массивов, расстояние между прокладываемыми параллельно друг другу трассами линейных объектов, пересечение с трассами других линейных объектов, устройство охранных зон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проектных решений по размещению линейного объекта, в том числе зданий, строений и сооружений в его составе, обеспечивающих пожарную безопасность линейного объекта (противопожарное расстояние между зданиями, сооружениями, наружными установками, отдельно стоящими резервуарами с нефтью и нефтепродуктами, компрессорными и насосными станциями и др., проектные решения по наружному противопожарному водоснабжению, проезды и подъезды для пожарной техник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объемно-планировочных и конструктивных решений, степени огнестойкости и класса конструктивной пожарной опасности, предела огнестойкости и класса пожарной опасности строительных конструкций обеспечивающих функционирование линейного объекта зданий, строений и сооружений, проектируемых и (или) находящихся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, обеспечивающих безопасность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989000"/>
            <a:ext cx="9144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 ХХХ 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К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ковый номер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 населенного пункта и кода субъекта Российской Федерации, согласно Общероссийского классификатора объектов административно-территориального деления ОК 019-95 на момент регист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мер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2771640" y="234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90000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7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967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ера возможности реализации пожар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а защиты и ее последствий для людей и материальных цен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уровень которого допустим и обоснован исходя из социально-экономических усло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который может привести к гибели человека в результате воздействия опасных факторов пожа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тепень опасности, ведущей к гибели группы людей в результате воздействия опасных факторов пож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341360"/>
            <a:ext cx="878544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76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«_____»________________________ г.  №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Порядка оценки соответствия объектов защиты (продукции) установленным требованиям пожарной безопасности путем независимой оценки пожарного ри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144 Федерального закона «Технический регламент о требованиях пожарной безопасности» Правительство Российской Федераци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о с т а н о в л я е 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Утвердить прилагаемый Порядок оценки соответствия объектов защиты (продукции) установленным требованиям пожарной безопасности путем независимой оценки пожарного ри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астоящее Постановление вступает в силу с 1 мая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едатель Прав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                                                     В. П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1293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оперативная обстановка с пожарами в Российской Федерации  характеризовалась следующими основными показателя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регистрировано 211163 пожа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ли 15924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 том числе 597 дете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лучили травмы 13646 человек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ямой материальный ущерб составил 8551,2 млн.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в Российской Федерации ежедневно происходило 579 пожаров, при которых погибало 44 человека и 37 человек получали травмы. Огнем уничтожалось 160 строений, 24 единицы автотракторной техники и 8 голов скота. Ежедневный материальный ущерб составил 23,4 млн. руб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921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ья 79. Нормативное значение пожарного риска для зданий, сооружений и стро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й пожарный риск в зданиях, сооружениях и строениях не должен превышать значе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дной миллионной в г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 размещен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ого человека в наиболее удаленной от выхода из здания, сооружения и строения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 должен  определяться  с  учетом  функционирования   систем  обеспечения пожарной безопасности зданий, сооружений и стро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33:39Z</dcterms:created>
  <dc:creator>Денис</dc:creator>
  <dc:description/>
  <dc:language>en-US</dc:language>
  <cp:lastModifiedBy>Лев Николаевич Григорьев</cp:lastModifiedBy>
  <cp:lastPrinted>2006-01-24T07:15:59Z</cp:lastPrinted>
  <dcterms:modified xsi:type="dcterms:W3CDTF">2010-05-12T05:20:08Z</dcterms:modified>
  <cp:revision>322</cp:revision>
  <dc:subject/>
  <dc:title>ОЦЕНКА ПОЖАРНОГО РИСКА ПРОМЫШЛЕННЫХ ОБЪЕКТОВ</dc:title>
</cp:coreProperties>
</file>